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41C90-6BFD-4685-98EF-EA1F82B90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8FBD7-449F-4D49-A71E-2CDCC4D33A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1BBAB-97CB-423A-98B9-0FD082BEAC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2E6EA-C104-48F6-9047-3B03B4B1EC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693CA-85A4-4E31-8AEB-E173CAD825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DD98E-A6BD-4CFB-A628-9CBED95D91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16817-9741-4A1E-91D1-72C6BFB20B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683B-B3B9-4B79-9247-7820D9F32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0952-F2A1-4A50-9717-059215738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203A-8A67-4C3F-8F2B-6BD91C2FF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BBAC-7855-4B16-B5F9-93C8DCCE1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7915E-CF92-4255-8CD8-A209736DF2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EB2F6-46F5-47D1-A935-298523F78C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BA76D-80CF-492D-B107-83B7243A69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8B6FA-4D1D-4E3C-85B2-E0EF0791BC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6217F-DE87-47F2-A690-7242520EB2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F1266-9B49-4AB0-BC9D-B21EB1BF07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772A6-C4EC-4AE7-A166-7E6BB77F0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C0AC-B2E3-4C48-9851-FF0CDEE61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75833-CC72-487A-BE5A-9B2BA25D1D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73242-D06E-4798-912B-6BD7CF54A9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814A4-2242-48C4-9F2C-231CC5CC3D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B165B-F8B0-4A89-B73E-B88D541A07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B56B3-FF7B-4ADF-A722-D159145276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C454-1F5A-4E82-AFDC-E5CADEEF94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6C12-5C96-407A-8651-4350038130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004A-A420-4E0B-BA31-0D0A4054C1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3E57-3D0D-4347-90FC-08446B736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FF3B-577D-45E9-A915-F8633C3DA0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2437-2333-4147-A3EA-46BBC032D1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2CA8-9518-4BAF-986A-6A4C221E86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60D5-6010-45D8-B31F-7D27C84863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1C69-7486-4CCB-A8A3-29CE52D9D1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A2EA-75FA-48BD-A80E-2B816BF126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7CB3-3107-41FA-9909-FB4068AF3F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560D-C745-4A83-86AD-F265C8EB21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1670-9CEC-4B5A-A995-7B138CC280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EEDF-EB2A-4207-B932-208D8954E8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6647E-D9DA-4973-A33C-6BB3B91AA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E4E9-3683-4836-BEFD-E3D82412E7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AE5CD-4C76-4B98-B21C-D2BE8B12426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6D9C28-A44D-48EB-98DC-835DA40E148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D92C7A-5A50-4F7D-8BB7-6B1D3FD2CF6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60AAA-CCCD-44B2-941C-F51A95780B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17806-38E5-440C-87BD-B7E71B68764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DBED0-3715-4419-AE96-33F1EF16BB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E95FE-99D4-40FD-9CC0-BD783C8EF9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7E7D55-CEA5-46FC-A36B-93E617A87CA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D3351-4D21-4194-8C76-979F9F36C2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3D924-164E-4F87-A80F-92C0C9965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F66B-476C-45A6-A076-1FB165FB1A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42080-DC83-403C-B4FA-931645A28F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F07D-E07D-4763-9120-CCBD846A94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3F75-D7D4-41EE-9CBA-550F95C090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1024-D962-49D6-A378-C164753C9E0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CE41-24A1-496E-AE29-0E1DC68C2EE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6365-C5CD-4908-BB41-374012A937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589D-9C5D-465D-8803-69119E3812B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3C33-D803-4A38-BF09-17F6E2B7B7E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A7CD-1B67-41AD-8903-19A6EBA0DFD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8999-1675-400E-A7E8-2AD7E820F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9A11-B015-439A-97D1-1E132659EF1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F7F1-8C78-47C2-8B9D-705817FB23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4A2F-F2B9-4FBD-8944-1FC2A998DA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85E2-1B56-448B-B3E5-02199C2A6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C370-6112-4A7B-BF48-2F8A32BF0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202C-3853-4603-B329-FEDAB2F60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ottomborderfinal-04.tif"/>
          <p:cNvPicPr/>
          <p:nvPr/>
        </p:nvPicPr>
        <p:blipFill>
          <a:blip r:embed="rId2"/>
          <a:srcRect l="1153" t="0" r="0" b="0"/>
          <a:stretch/>
        </p:blipFill>
        <p:spPr>
          <a:xfrm>
            <a:off x="-69840" y="6045120"/>
            <a:ext cx="9220320" cy="82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93840" y="6465960"/>
            <a:ext cx="222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itle  |  Name, Position Title  |  Date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203520" y="6465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142E5-EF13-4BD1-9F79-4DA918997E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ottomborderfinal-04.tif"/>
          <p:cNvPicPr/>
          <p:nvPr/>
        </p:nvPicPr>
        <p:blipFill>
          <a:blip r:embed="rId2"/>
          <a:srcRect l="1153" t="0" r="0" b="0"/>
          <a:stretch/>
        </p:blipFill>
        <p:spPr>
          <a:xfrm>
            <a:off x="-69840" y="6045120"/>
            <a:ext cx="9220320" cy="82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93840" y="6465960"/>
            <a:ext cx="222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itle  |  Name, Position Title  |  Date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203520" y="6465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B38B4-BAF8-424D-B572-4104E56766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coverfinal-01.tif"/>
          <p:cNvPicPr/>
          <p:nvPr/>
        </p:nvPicPr>
        <p:blipFill>
          <a:blip r:embed="rId2"/>
          <a:srcRect l="4505" t="0" r="0" b="0"/>
          <a:stretch/>
        </p:blipFill>
        <p:spPr>
          <a:xfrm>
            <a:off x="-96840" y="-262080"/>
            <a:ext cx="9536040" cy="713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logoplain-03.tif"/>
          <p:cNvPicPr/>
          <p:nvPr/>
        </p:nvPicPr>
        <p:blipFill>
          <a:blip r:embed="rId2"/>
          <a:stretch/>
        </p:blipFill>
        <p:spPr>
          <a:xfrm>
            <a:off x="7686720" y="1094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9"/>
          <p:cNvSpPr/>
          <p:nvPr/>
        </p:nvSpPr>
        <p:spPr>
          <a:xfrm>
            <a:off x="345960" y="6353280"/>
            <a:ext cx="8490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5"/>
          </p:nvPr>
        </p:nvSpPr>
        <p:spPr>
          <a:xfrm>
            <a:off x="353520" y="6465960"/>
            <a:ext cx="222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Arial"/>
              </a:rPr>
              <a:t>Title  |  Name, Position Title  |  Date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6702120" y="6465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4F5AF-D63A-4C2E-828B-C26AEBB35F8A}" type="slidenum">
              <a:rPr b="0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logoplain-03.tif"/>
          <p:cNvPicPr/>
          <p:nvPr/>
        </p:nvPicPr>
        <p:blipFill>
          <a:blip r:embed="rId2"/>
          <a:stretch/>
        </p:blipFill>
        <p:spPr>
          <a:xfrm>
            <a:off x="7686720" y="1094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7"/>
          </p:nvPr>
        </p:nvSpPr>
        <p:spPr>
          <a:xfrm>
            <a:off x="6702120" y="6465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12BA1-A58A-4B56-B09D-ACCE8783A7FF}" type="slidenum">
              <a:rPr b="0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8" descr="logoplain-03.tif"/>
          <p:cNvPicPr/>
          <p:nvPr/>
        </p:nvPicPr>
        <p:blipFill>
          <a:blip r:embed="rId2"/>
          <a:stretch/>
        </p:blipFill>
        <p:spPr>
          <a:xfrm>
            <a:off x="7686720" y="1094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04" name="Straight Connector 9"/>
          <p:cNvSpPr/>
          <p:nvPr/>
        </p:nvSpPr>
        <p:spPr>
          <a:xfrm>
            <a:off x="345960" y="6353280"/>
            <a:ext cx="8490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8"/>
          </p:nvPr>
        </p:nvSpPr>
        <p:spPr>
          <a:xfrm>
            <a:off x="345600" y="6465960"/>
            <a:ext cx="222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Arial"/>
              </a:rPr>
              <a:t>Title  |  Name, Position Title  |  Date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9"/>
          </p:nvPr>
        </p:nvSpPr>
        <p:spPr>
          <a:xfrm>
            <a:off x="6702120" y="6465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163C3-7586-40AD-8A1E-65EE3F1D8681}" type="slidenum">
              <a:rPr b="0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coverfinal-01.tif"/>
          <p:cNvPicPr/>
          <p:nvPr/>
        </p:nvPicPr>
        <p:blipFill>
          <a:blip r:embed="rId1"/>
          <a:srcRect l="4505" t="0" r="0" b="0"/>
          <a:stretch/>
        </p:blipFill>
        <p:spPr>
          <a:xfrm>
            <a:off x="-366840" y="-262080"/>
            <a:ext cx="9536400" cy="7132680"/>
          </a:xfrm>
          <a:prstGeom prst="rect">
            <a:avLst/>
          </a:prstGeom>
          <a:ln w="0">
            <a:noFill/>
          </a:ln>
        </p:spPr>
      </p:pic>
      <p:sp>
        <p:nvSpPr>
          <p:cNvPr id="253" name="Title 1"/>
          <p:cNvSpPr/>
          <p:nvPr/>
        </p:nvSpPr>
        <p:spPr>
          <a:xfrm>
            <a:off x="685800" y="140328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Annual Report on the performance of the Massachusetts health care syste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ubtitle 2"/>
          <p:cNvSpPr/>
          <p:nvPr/>
        </p:nvSpPr>
        <p:spPr>
          <a:xfrm>
            <a:off x="2057400" y="2039760"/>
            <a:ext cx="6400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6a6a6"/>
                </a:solidFill>
                <a:latin typeface="Arial"/>
                <a:ea typeface="Arial"/>
              </a:rPr>
              <a:t>September 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ubtitle 2"/>
          <p:cNvSpPr/>
          <p:nvPr/>
        </p:nvSpPr>
        <p:spPr>
          <a:xfrm>
            <a:off x="2057400" y="3386160"/>
            <a:ext cx="6400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Arial"/>
              </a:rPr>
              <a:t>Chart 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icture 3"/>
          <p:cNvSpPr/>
          <p:nvPr/>
        </p:nvSpPr>
        <p:spPr>
          <a:xfrm>
            <a:off x="903240" y="1698480"/>
            <a:ext cx="733284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8280" y="6259680"/>
            <a:ext cx="4357800" cy="489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Growth in commercial medical spending has slowed in recent year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Source: 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" descr="CHIA-AR-GraphicDeck_082714_v6-Figure8-cmyk-o.png"/>
          <p:cNvPicPr/>
          <p:nvPr/>
        </p:nvPicPr>
        <p:blipFill>
          <a:blip r:embed="rId1"/>
          <a:stretch/>
        </p:blipFill>
        <p:spPr>
          <a:xfrm>
            <a:off x="744480" y="1623960"/>
            <a:ext cx="765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HIA-AR-GraphicDeck_082714_v6-Figure9-cmyk-o.png"/>
          <p:cNvPicPr/>
          <p:nvPr/>
        </p:nvPicPr>
        <p:blipFill>
          <a:blip r:embed="rId1"/>
          <a:stretch/>
        </p:blipFill>
        <p:spPr>
          <a:xfrm>
            <a:off x="1932120" y="368280"/>
            <a:ext cx="5268960" cy="45226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"/>
          <p:cNvSpPr/>
          <p:nvPr/>
        </p:nvSpPr>
        <p:spPr>
          <a:xfrm>
            <a:off x="98280" y="5740560"/>
            <a:ext cx="4373640" cy="100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Hospital and Physician payments accounted for most medical spending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Other Professional includes payments generated from claims to health care providers for services provided by a licensed practitioner other than a physician. Other Medical includes payments generated from claims to health care providers for medical services not otherwise included in other categories, including skilled nursing and home health service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2"/>
          <p:cNvSpPr/>
          <p:nvPr/>
        </p:nvSpPr>
        <p:spPr>
          <a:xfrm>
            <a:off x="98280" y="5946840"/>
            <a:ext cx="4486320" cy="76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There was significant variation in payer medical expense trends from 2012 to 2013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: HSA TME is not comparable across payers due to differences in risk adjustme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tools. BMC and Network Health did not offer commercial health plans in 20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" descr="CHIA-Table 10.png"/>
          <p:cNvPicPr/>
          <p:nvPr/>
        </p:nvPicPr>
        <p:blipFill>
          <a:blip r:embed="rId1"/>
          <a:stretch/>
        </p:blipFill>
        <p:spPr>
          <a:xfrm>
            <a:off x="1082520" y="1270080"/>
            <a:ext cx="697896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CHIA-AR-GraphicDeck_082714_v6-Figure11-cmyk-o.png"/>
          <p:cNvPicPr/>
          <p:nvPr/>
        </p:nvPicPr>
        <p:blipFill>
          <a:blip r:embed="rId1"/>
          <a:stretch/>
        </p:blipFill>
        <p:spPr>
          <a:xfrm>
            <a:off x="463680" y="1449360"/>
            <a:ext cx="8134200" cy="34196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98280" y="5989680"/>
            <a:ext cx="4673880" cy="76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Physician Group medical expense trends varied statewide and across payer network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: Includes the largest physician groups in the major payers’ networks. T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reflects only patients attributed to a physician group (primarily HMO membership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CHIA-AR-GraphicDeck_082714_v6-Figure12-cmyk.png"/>
          <p:cNvPicPr/>
          <p:nvPr/>
        </p:nvPicPr>
        <p:blipFill>
          <a:blip r:embed="rId1"/>
          <a:stretch/>
        </p:blipFill>
        <p:spPr>
          <a:xfrm>
            <a:off x="588960" y="1905120"/>
            <a:ext cx="7942320" cy="36907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"/>
          <p:cNvSpPr/>
          <p:nvPr/>
        </p:nvSpPr>
        <p:spPr>
          <a:xfrm>
            <a:off x="104760" y="6080040"/>
            <a:ext cx="3998880" cy="672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About ten cents of every premium dollar went to non-medical spending,</a:t>
            </a:r>
            <a:br>
              <a:rPr sz="1000"/>
            </a:b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but surpluses were only a fraction of the remaind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Oliver Wyman analysis of submitted federal CCIIO data for eight payer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CHIA-AR-GraphicDeck_082714_v6-Figure13-cmyk_Figure 14.png"/>
          <p:cNvPicPr/>
          <p:nvPr/>
        </p:nvPicPr>
        <p:blipFill>
          <a:blip r:embed="rId1"/>
          <a:stretch/>
        </p:blipFill>
        <p:spPr>
          <a:xfrm>
            <a:off x="-330120" y="395280"/>
            <a:ext cx="9804240" cy="57531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"/>
          <p:cNvSpPr/>
          <p:nvPr/>
        </p:nvSpPr>
        <p:spPr>
          <a:xfrm>
            <a:off x="142920" y="5692680"/>
            <a:ext cx="4494240" cy="1022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Medicare is the biggest public program, but MassHealth</a:t>
            </a:r>
            <a:br>
              <a:rPr sz="1000"/>
            </a:b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and Commonwealth Care together are nearly as lar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Other public health care program expenditures include Health Safety Net payments, Medical Security Program expenses and Veteran Affairs expenditures. By statute, Total Health Care Expenditures does not include non-medical expenses for public program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and other public sources. See Technical Appendix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HIA-AR-GraphicDeck_082714_v6-Figure14-cmyk-o.png"/>
          <p:cNvPicPr/>
          <p:nvPr/>
        </p:nvPicPr>
        <p:blipFill>
          <a:blip r:embed="rId1"/>
          <a:stretch/>
        </p:blipFill>
        <p:spPr>
          <a:xfrm>
            <a:off x="339840" y="1854360"/>
            <a:ext cx="8459640" cy="31446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98280" y="6072120"/>
            <a:ext cx="5311800" cy="64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MassHealth program expenditures have not grown as fast as general consumer pric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Blue Cross Blue Shield Foundation / Massachusetts Medicaid Policy Institute; Infl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data from Bureau of Labor Statistics: Consumer Price Index (CPI) Dat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CHIA-AR-GraphicDeck_082714_v6-Figure15-cmyk-o.png"/>
          <p:cNvPicPr/>
          <p:nvPr/>
        </p:nvPicPr>
        <p:blipFill>
          <a:blip r:embed="rId1"/>
          <a:stretch/>
        </p:blipFill>
        <p:spPr>
          <a:xfrm>
            <a:off x="561960" y="2171880"/>
            <a:ext cx="7994520" cy="25128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98280" y="6199200"/>
            <a:ext cx="5311800" cy="52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The proportion of members whose care was paid under APMs declined slightly in 2013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HIA (payer-reported data); Catalyst for Payment Reform National Scorecard on Payment Reform, 201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5640" y="107460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 Fig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5640" y="1715760"/>
            <a:ext cx="88246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 by Payer Membership (2013) and Provider Payments (20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 of Total Health Care Expenditures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Health Care Expenditures in Context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Insurance Expenditures (2012 –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Premium and Benefit Level Trends (2009 – 201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y-Insured Market Premiums and Benefit Levels Relative to Statewide Average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Deductible Health Plans by Market Sector (2011 –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wide Total Medical Expenses PMPM (2010 –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tal Medical Expenses by Service Category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Status Adjusted Total Medical Expenses by Payer (2012 –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Physician Group Health Status Adjusted Total Medical Expenses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 of Massachusetts Payer Retention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Health Care Program Expenditures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Health Spending PMPM and Inflation Growth Rate (2005 – 201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Payer Use of Alternative Payment Methods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CHIA-AR-GraphicDeck_082714_v6-Figure1-cmyk-o.png"/>
          <p:cNvPicPr/>
          <p:nvPr/>
        </p:nvPicPr>
        <p:blipFill>
          <a:blip r:embed="rId1"/>
          <a:stretch/>
        </p:blipFill>
        <p:spPr>
          <a:xfrm>
            <a:off x="453960" y="1509840"/>
            <a:ext cx="8226360" cy="3294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90360" y="5925960"/>
            <a:ext cx="3907080" cy="81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The Massachusetts payer and provider markets are highly concentrat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Harvard Pilgrim Health Care (HPHC) includes Health Plans Inc. membership. Some provider consolidation activity has occurred since this data was collect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CHIA-AR-GraphicDeck_083114_v7-Figure2-cmyk-o.png"/>
          <p:cNvPicPr/>
          <p:nvPr/>
        </p:nvPicPr>
        <p:blipFill>
          <a:blip r:embed="rId1"/>
          <a:stretch/>
        </p:blipFill>
        <p:spPr>
          <a:xfrm>
            <a:off x="1469880" y="642960"/>
            <a:ext cx="6189840" cy="55641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90360" y="96840"/>
            <a:ext cx="3735360" cy="682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Health care expenditures per Massachusetts resident w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$7,550 – an annual increase of +2.3%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(payer-reported data) and other public sources. See Technical Appendix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Content Placeholder 1" descr="CHIA-AR-GraphicDeck_082714_v6-Figure3-cmyk-o.png"/>
          <p:cNvPicPr/>
          <p:nvPr/>
        </p:nvPicPr>
        <p:blipFill>
          <a:blip r:embed="rId1"/>
          <a:srcRect l="7849" t="0" r="7849" b="0"/>
          <a:stretch/>
        </p:blipFill>
        <p:spPr>
          <a:xfrm>
            <a:off x="449280" y="2111400"/>
            <a:ext cx="8039160" cy="35798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90360" y="96840"/>
            <a:ext cx="4659480" cy="95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Total Health Care Expenditures per capita grew by +2.3%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below the health care cost growth benchmark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and other public sources. Inflation data from Bureau of Labor Statistics: Consumer Price Index 12-Month Percent Change. Gross State Product data from U.S. Bureau of Economic Analysis: Widespread But Slower Growth in 2013: Advance 2013 and Revised 1997 – 2012 Statistics by GDP by St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HIA-AR-GraphicDeck_082714_v6-Figure4-cmyk-o.png"/>
          <p:cNvPicPr/>
          <p:nvPr/>
        </p:nvPicPr>
        <p:blipFill>
          <a:blip r:embed="rId1"/>
          <a:stretch/>
        </p:blipFill>
        <p:spPr>
          <a:xfrm>
            <a:off x="2236680" y="766800"/>
            <a:ext cx="4665600" cy="51354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90360" y="6064200"/>
            <a:ext cx="3584880" cy="699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Commercially insured medical spending grew +2.2% while</a:t>
            </a:r>
            <a:br>
              <a:rPr sz="1000"/>
            </a:b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non-medical expenses fel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Source: CHIA (payer-reported data) and actuarial estimate of non-data filer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CHIA-AR-GraphicDeck_082714_v6-Figure5-cmyk-o.png"/>
          <p:cNvPicPr/>
          <p:nvPr/>
        </p:nvPicPr>
        <p:blipFill>
          <a:blip r:embed="rId1"/>
          <a:stretch/>
        </p:blipFill>
        <p:spPr>
          <a:xfrm>
            <a:off x="268200" y="1390680"/>
            <a:ext cx="8632800" cy="34401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104760" y="5979960"/>
            <a:ext cx="4427640" cy="78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Premiums and benefit levels held steady in 2013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Benefit levels measured by average actuarial values (not shown). 2009-10 data does not include CIGNA and WellPoint; this does not materially impact overall market trend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CHIA-AR-GraphicDeck_082714_v6-Figure6-cmyk-o.png"/>
          <p:cNvPicPr/>
          <p:nvPr/>
        </p:nvPicPr>
        <p:blipFill>
          <a:blip r:embed="rId1"/>
          <a:stretch/>
        </p:blipFill>
        <p:spPr>
          <a:xfrm>
            <a:off x="1846440" y="620640"/>
            <a:ext cx="5446440" cy="48196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142920" y="5921280"/>
            <a:ext cx="4697280" cy="794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The larger plans had higher premiums in 2013, but their benefit levels were also high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900" spc="-1" strike="noStrike">
                <a:solidFill>
                  <a:srgbClr val="7f7f7f"/>
                </a:solidFill>
                <a:latin typeface="Calibri"/>
              </a:rPr>
              <a:t> Benefit levels measured by average actuarial values. WellPoint and CIGNA excluded from the figure due to low fully-insured populations. Square size reflects fully-insured enrollmen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900" spc="-1" strike="noStrike">
                <a:solidFill>
                  <a:srgbClr val="7f7f7f"/>
                </a:solidFill>
                <a:latin typeface="Calibri"/>
              </a:rPr>
              <a:t> CHIA (payer-reported data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icture 3"/>
          <p:cNvSpPr/>
          <p:nvPr/>
        </p:nvSpPr>
        <p:spPr>
          <a:xfrm>
            <a:off x="1114560" y="1530360"/>
            <a:ext cx="6912000" cy="37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90360" y="5735520"/>
            <a:ext cx="4027680" cy="100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Enrollment in High-Deductible Health Plans continued to increase in 2013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HDHPs were defined within this report as plans meeting IRS deductible levels. HDHP IRS standard deductible levels were $1,200 in 2011-12 and $1,250 in 2013. Figure shows membership of market sectors as of 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1" descr="CHIA-AR-GraphicDeck_082714_v6-Figure7-cmyk-o.png"/>
          <p:cNvPicPr/>
          <p:nvPr/>
        </p:nvPicPr>
        <p:blipFill>
          <a:blip r:embed="rId1"/>
          <a:stretch/>
        </p:blipFill>
        <p:spPr>
          <a:xfrm>
            <a:off x="1263600" y="1270080"/>
            <a:ext cx="64645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17:39:10Z</dcterms:created>
  <dc:creator>Caitlin Sullivan</dc:creator>
  <dc:description/>
  <cp:keywords/>
  <dc:language>en-US</dc:language>
  <cp:lastModifiedBy>Casey B Kincheloe</cp:lastModifiedBy>
  <cp:lastPrinted>2014-09-02T11:13:30Z</cp:lastPrinted>
  <dcterms:modified xsi:type="dcterms:W3CDTF">2014-09-02T12:25:17Z</dcterms:modified>
  <cp:revision>25</cp:revision>
  <dc:subject/>
  <dc:title>PowerPoint Presentation</dc:title>
</cp:coreProperties>
</file>